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BCE1-5691-40D3-A82C-3BC76C43F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2AC5-7A1A-4F86-A448-8AB8256B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C07B-2C46-4B00-B49E-9AD195F82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A204-A4D6-4BF9-8303-58AC8A14C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47A1C-EBF3-44B0-A4A6-643CB46C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4F23-98AB-4AB2-9BBA-6D78084E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B5AF-B030-42C1-BD32-929A5D8F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8878-843C-426F-A6DA-A5FE7E5B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6741-0341-4336-886E-DE26C571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3676-494B-4A55-9F58-0010C1E7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9CE6-E0CA-4481-B424-D17F2633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1E7E-8499-4260-B4CC-D1F3C977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3F6E-1A36-44F8-BD3F-37E596F6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FB56-0D20-43B6-A684-B95302EF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8BEC-5DB5-459C-9726-AAAC17F5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E65C-9529-4B52-82E9-AE4239583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2423-7447-4C4B-A72F-88C1A232B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4018-5E68-4157-8A80-8CD528D4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6CCA-D7CB-4BA7-A8DE-64CF750A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8F49-5D6A-4985-A68B-4DA82653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D52F-204F-452D-809E-E9AD51CF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065B-2A45-4560-B654-33A485F1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0F94-0896-48C1-9DC3-F8A89A43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876D-655F-4C70-9E63-C2788D44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9518-EDB5-4A66-9144-ECA3E8C6D9DC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4B72-05FE-40B7-A4F7-EC9B0F27EB4D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85840" y="1066680"/>
            <a:ext cx="47242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固体催化剂的表征方法—</a:t>
            </a:r>
            <a:br>
              <a:rPr sz="4400"/>
            </a:b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程序升温脱附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/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还原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(TPD/TPR)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00800" y="3801960"/>
            <a:ext cx="22860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***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009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程序升温还原（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TPR)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PR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常应用于表征负载型金属或过渡金属氧化物催化剂，对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PR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结果进行分析可以获得金属与载体的相互作用，金属的价态和是否形成合金等方面的信息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徐柏庆，徐奕德等，程序升温原位分析方法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5261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程序升温还原原理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当负载的金属的价态，聚集状态，与载体的作用发生改变的时候，其还原温度，还原后的价态将会发生改变，如果能测出程序升温还原过程中氢气的消耗量，还原温度等，就能得到负载金属的一些状态参数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6858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简要操作步骤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吹扫水分，杂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程序升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145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例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A.Ni/ZrO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B.Co-Ni/ZrO2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C.Co-Ni/ZrO2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The increase metal loading reduces the metal-support interaction and the metal oxide reduces with less interference from the support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aresh C.Das,Catalysis Letters Vol.98,Nos.2-3,November 2004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267080" y="1447920"/>
            <a:ext cx="44960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167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例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4267440" cy="4419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724280" y="1676520"/>
            <a:ext cx="4191120" cy="4419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61722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Times New Roman"/>
              </a:rPr>
              <a:t>Gonzalo Aguila,Catalysis Communications 9(2008)2550-2554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谢   谢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60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年代，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Ovetanovio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Amenomiya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成功建立和发展了程序升温技术，在最近的几十年中，不管是理论上还是在实验上都得到了充分的完善，并且有广泛的应用，通过此方法可以得到气体在催化剂上吸附键的强弱等信息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辛勤，催化研究中的原位技术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685440"/>
            <a:ext cx="640692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1. 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程序升温脱附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(TPD)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40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测量某固体酸碱的强度和数量时，固体上的物种活性系数是未知的，因此从热力学上来讲固体的酸度和碱度都是不确定的，如果考虑到上述局限性，又不过分强调数值的精度，其绝对值还是非常重要的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常用于测定酸强度和酸量的方法有胺滴定法，红外和气体吸附脱附法，后两方法更为普遍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578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程序升温脱附原理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848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碱性气体在酸性中心上吸附时，吸附在强酸中心上的比吸附在弱酸中心上的稳定，也更难脱附，提高温度可令其从酸性中心上脱附，而那些在弱酸中心上的将首先脱附，因此测定在不同温度下脱附的吸附碱相对量可测定酸中心强度，而脱附的碱性气体的量也就对应其酸量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常用的碱性气体有氨气，吡啶和正丁胺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田部浩三，新固体酸和碱及其催化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两种常用的研究酸技术的比较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90720" y="1523880"/>
          <a:ext cx="6553080" cy="502632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286000"/>
              </a:tblGrid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程序升温脱附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吡啶红外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酸量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峰面积计算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峰面积计算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酸强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可以，温度范围较宽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可以，只能比较</a:t>
                      </a: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00℃</a:t>
                      </a: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以内的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酸分布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不可以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可以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酸类型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不可以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可以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282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简要操作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吹扫：吹扫吸附在催化剂上的水分和杂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吸附气体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吹扫物理吸附的气体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程序升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1371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例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9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在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Cu-Mn-Si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耦合反应合成环己酮和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2-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甲基呋喃的研究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A3: Cu:Mn=1:2.3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A4: Cu:Mn:Si=1:1.12:2.3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A5: Cu:Mn:Si=1:1.12:1.1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A6: Cu:Mn:Si=1:1.12:0.67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结论：弱酸对环己醇脱氢没有太大的影响，而中等强度的酸对环己酮的收率影响大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Hong-Yan Zheng,Yu-Lei Zhu,Catalysis Communications 9(2008)342-348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0" y="990720"/>
            <a:ext cx="4402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例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0" y="1447920"/>
            <a:ext cx="4114800" cy="43434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6095880"/>
            <a:ext cx="6095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Komandur V.R.Chary,J.Phys.Chem.B,2007,111(3),543-550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33320" y="1371600"/>
            <a:ext cx="3337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TPD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的几种延伸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4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原位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PD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.TPD-IR-M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储伟 ，催化剂工程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肖丰收，辛勤，催化研究中的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TPD-IR-MS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方法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KLTLZX</cp:lastModifiedBy>
  <dcterms:modified xsi:type="dcterms:W3CDTF">2011-11-02T01:43:1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