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87C-2C82-4603-8E7F-5DA60049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01DD-3A54-4EC1-B2F8-5C8CBAD9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C39E-6A3D-4D44-8B18-15E0A1E5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391B-E4B6-4C50-A0D4-91A9E27C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F1BA-8A73-4D05-AC46-274B0F5E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675F-C6CB-4136-AC83-9072091A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F97F-F98F-4A66-B1A5-B42F53F2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8000-11F8-4838-A63E-038EDDC6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F1A4-9B89-41C0-BA12-74865B5D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8813-1D4D-4061-83C0-E2672CEA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14D2-8351-4674-A68C-FA529A35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D83-D860-42CC-94E1-7D66A226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DE86-2142-41DC-9159-A223E154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823A-239B-4025-8303-3B7003AF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61D8-DAD0-4068-B957-918BBE49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2AA5-669E-463F-BF92-2229FB50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471C-41AC-48E5-9415-F3204A1B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DFF-1D93-42D2-97B7-6E44FA0F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09BB-37E1-4AC7-B9D6-04BFC478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EF3-8CDF-4B09-98AD-ADD6C856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6C0-CDA9-4E60-A9A9-FD02965E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16E-1F9F-4B9F-83E2-FE330DD6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DBD-BF5F-4769-BDD6-3E2F809C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DD9-2800-4765-B94E-ABC2CD91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90E2-0140-48AA-B4A8-DD1EA44D6A67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4EC7-BBDC-4FCC-88DB-DF0EB704B1BF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5840" y="1066680"/>
            <a:ext cx="4724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固体催化剂的表征方法—</a:t>
            </a:r>
            <a:br>
              <a:rPr sz="4400"/>
            </a:b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/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还原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(TPD/TPR)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00800" y="3801960"/>
            <a:ext cx="22860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***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009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程序升温还原（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TPR)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应用于表征负载型金属或过渡金属氧化物催化剂，对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结果进行分析可以获得金属与载体的相互作用，金属的价态和是否形成合金等方面的信息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徐柏庆，徐奕德等，程序升温原位分析方法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5261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还原原理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当负载的金属的价态，聚集状态，与载体的作用发生改变的时候，其还原温度，还原后的价态将会发生改变，如果能测出程序升温还原过程中氢气的消耗量，还原温度等，就能得到负载金属的一些状态参数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6858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简要操作步骤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水分，杂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程序升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145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.Ni/ZrO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B.Co-Ni/ZrO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C.Co-Ni/ZrO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The increase metal loading reduces the metal-support interaction and the metal oxide reduces with less interference from the suppor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aresh C.Das,Catalysis Letters Vol.98,Nos.2-3,November 2004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4496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167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4267440" cy="4419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4191120" cy="4419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61722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Times New Roman"/>
              </a:rPr>
              <a:t>Gonzalo Aguila,Catalysis Communications 9(2008)2550-2554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谢   谢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代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Ovetanovio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menomiya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成功建立和发展了程序升温技术，在最近的几十年中，不管是理论上还是在实验上都得到了充分的完善，并且有广泛的应用，通过此方法可以得到气体在催化剂上吸附键的强弱等信息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辛勤，催化研究中的原位技术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685440"/>
            <a:ext cx="64069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. 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(TPD)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4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测量某固体酸碱的强度和数量时，固体上的物种活性系数是未知的，因此从热力学上来讲固体的酸度和碱度都是不确定的，如果考虑到上述局限性，又不过分强调数值的精度，其绝对值还是非常重要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用于测定酸强度和酸量的方法有胺滴定法，红外和气体吸附脱附法，后两方法更为普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原理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碱性气体在酸性中心上吸附时，吸附在强酸中心上的比吸附在弱酸中心上的稳定，也更难脱附，提高温度可令其从酸性中心上脱附，而那些在弱酸中心上的将首先脱附，因此测定在不同温度下脱附的吸附碱相对量可测定酸中心强度，而脱附的碱性气体的量也就对应其酸量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常用的碱性气体有氨气，吡啶和正丁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田部浩三，新固体酸和碱及其催化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两种常用的研究酸技术的比较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1523880"/>
          <a:ext cx="6553080" cy="502632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286000"/>
              </a:tblGrid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程序升温脱附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吡啶红外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量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峰面积计算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峰面积计算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强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，温度范围较宽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，只能比较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0℃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以内的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分布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不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类型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不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282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简要操作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：吹扫吸附在催化剂上的水分和杂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吸附气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物理吸附的气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程序升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137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9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Cu-Mn-Si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耦合反应合成环己酮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2-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甲基呋喃的研究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3: Cu:Mn=1:2.3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4: Cu:Mn:Si=1:1.12:2.3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5: Cu:Mn:Si=1:1.12:1.1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6: Cu:Mn:Si=1:1.12:0.67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结论：弱酸对环己醇脱氢没有太大的影响，而中等强度的酸对环己酮的收率影响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ong-Yan Zheng,Yu-Lei Zhu,Catalysis Communications 9(2008)342-348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402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4114800" cy="4343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60958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Komandur V.R.Chary,J.Phys.Chem.B,2007,111(3),543-550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33320" y="1371600"/>
            <a:ext cx="3337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TPD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的几种延伸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4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原位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D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TPD-IR-M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储伟 ，催化剂工程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肖丰收，辛勤，催化研究中的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TPD-IR-MS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方法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KLTLZX</cp:lastModifiedBy>
  <dcterms:modified xsi:type="dcterms:W3CDTF">2011-11-02T01:43:1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